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48920" y="965160"/>
            <a:ext cx="50706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49280" y="965160"/>
            <a:ext cx="5073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58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3840" indent="-216000">
              <a:lnSpc>
                <a:spcPct val="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5480" indent="-214200">
              <a:lnSpc>
                <a:spcPct val="9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7480" indent="-216000">
              <a:lnSpc>
                <a:spcPct val="9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7480" indent="-216000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7480" indent="-216000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bout M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95000"/>
              </a:lnSpc>
              <a:buNone/>
              <a:tabLst>
                <a:tab algn="l" pos="0"/>
                <a:tab algn="l" pos="43020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A presentation for my computer teacher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chool I Have Attende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1517400"/>
            <a:ext cx="511488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attended an elementary with 4 rooms and 4 teach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r. Moody was one of my favorite teach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Mr. Moody's room we made lots of fun crafts projec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7</a:t>
            </a:r>
            <a:r>
              <a:rPr b="0" lang="en-GB" sz="3200" spc="-1" strike="noStrike" baseline="33000">
                <a:solidFill>
                  <a:srgbClr val="e6e6e6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grade we got to go to town to the junior high schoo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373880" y="6580080"/>
            <a:ext cx="635040" cy="493920"/>
          </a:xfrm>
          <a:prstGeom prst="leftArrow">
            <a:avLst>
              <a:gd name="adj1" fmla="val 50000"/>
              <a:gd name="adj2" fmla="val 3214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 rot="10800000">
            <a:off x="8996040" y="6561000"/>
            <a:ext cx="615960" cy="493920"/>
          </a:xfrm>
          <a:prstGeom prst="leftArrow">
            <a:avLst>
              <a:gd name="adj1" fmla="val 50000"/>
              <a:gd name="adj2" fmla="val 311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8272440" y="6508800"/>
            <a:ext cx="530280" cy="5824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21200" y="2270160"/>
            <a:ext cx="425952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avorite School Subjec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enjoy math, science, and social studi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nglish not one of my favorite class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ke going to junior hig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373880" y="6580080"/>
            <a:ext cx="635040" cy="493920"/>
          </a:xfrm>
          <a:prstGeom prst="leftArrow">
            <a:avLst>
              <a:gd name="adj1" fmla="val 50000"/>
              <a:gd name="adj2" fmla="val 3214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 rot="10800000">
            <a:off x="8996040" y="6561000"/>
            <a:ext cx="615960" cy="493920"/>
          </a:xfrm>
          <a:prstGeom prst="leftArrow">
            <a:avLst>
              <a:gd name="adj1" fmla="val 50000"/>
              <a:gd name="adj2" fmla="val 311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272440" y="6508800"/>
            <a:ext cx="530280" cy="5824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bout Me Menu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</a:rPr>
              <a:t>Introduc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</a:rPr>
              <a:t>My Famil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</a:rPr>
              <a:t>Where I Liv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</a:rPr>
              <a:t>What I Lik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</a:rPr>
              <a:t>My Friend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</a:rPr>
              <a:t>My Roo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</a:rPr>
              <a:t>Favorite Music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</a:rPr>
              <a:t>Favorite Music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</a:rPr>
              <a:t>Class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379000" y="6226200"/>
            <a:ext cx="793440" cy="635040"/>
          </a:xfrm>
          <a:prstGeom prst="hexagon">
            <a:avLst>
              <a:gd name="adj" fmla="val 31236"/>
              <a:gd name="vf" fmla="val 115470"/>
            </a:avLst>
          </a:prstGeom>
          <a:solidFill>
            <a:srgbClr val="ff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am a student in 7</a:t>
            </a:r>
            <a:r>
              <a:rPr b="0" lang="en-GB" sz="3200" spc="-1" strike="noStrike" baseline="33000">
                <a:solidFill>
                  <a:srgbClr val="e6e6e6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grad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ke to fix thin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come from a family of 6 childr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ve on a far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get to milk a cow each night after schoo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the summers I work for my dad stacking hay and hoeing dodd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the summer my family usually takes a vac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372440" y="6578640"/>
            <a:ext cx="635040" cy="493560"/>
          </a:xfrm>
          <a:prstGeom prst="leftArrow">
            <a:avLst>
              <a:gd name="adj1" fmla="val 50000"/>
              <a:gd name="adj2" fmla="val 32166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 rot="10800000">
            <a:off x="8996040" y="6561000"/>
            <a:ext cx="615960" cy="493920"/>
          </a:xfrm>
          <a:prstGeom prst="leftArrow">
            <a:avLst>
              <a:gd name="adj1" fmla="val 50000"/>
              <a:gd name="adj2" fmla="val 311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8272440" y="6508800"/>
            <a:ext cx="530280" cy="5824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y Fami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ve in a small farming communit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have 2 brothers and 3 sist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younger brother Ray is just 2 years younger than me but he is about my  size and we look a lot alik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e play a lot togeth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7373880" y="6580080"/>
            <a:ext cx="635040" cy="493920"/>
          </a:xfrm>
          <a:prstGeom prst="leftArrow">
            <a:avLst>
              <a:gd name="adj1" fmla="val 50000"/>
              <a:gd name="adj2" fmla="val 3214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 rot="10800000">
            <a:off x="8996040" y="6561000"/>
            <a:ext cx="615960" cy="493920"/>
          </a:xfrm>
          <a:prstGeom prst="leftArrow">
            <a:avLst>
              <a:gd name="adj1" fmla="val 50000"/>
              <a:gd name="adj2" fmla="val 311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8272440" y="6508800"/>
            <a:ext cx="530280" cy="5824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here I Liv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ve in a on a far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community is in a desert area in western Uta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7373880" y="6580080"/>
            <a:ext cx="635040" cy="493920"/>
          </a:xfrm>
          <a:prstGeom prst="leftArrow">
            <a:avLst>
              <a:gd name="adj1" fmla="val 50000"/>
              <a:gd name="adj2" fmla="val 3214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 rot="10800000">
            <a:off x="8996040" y="6561000"/>
            <a:ext cx="615960" cy="493920"/>
          </a:xfrm>
          <a:prstGeom prst="leftArrow">
            <a:avLst>
              <a:gd name="adj1" fmla="val 50000"/>
              <a:gd name="adj2" fmla="val 311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8272440" y="6508800"/>
            <a:ext cx="530280" cy="5824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33520" y="3262320"/>
            <a:ext cx="523404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 Like to.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ke to fix thin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dad lets me do some of the welding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have a work bench with tools in the basement of our house where I can build thin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mother has me fix things around the hou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7373880" y="6580080"/>
            <a:ext cx="635040" cy="493920"/>
          </a:xfrm>
          <a:prstGeom prst="leftArrow">
            <a:avLst>
              <a:gd name="adj1" fmla="val 50000"/>
              <a:gd name="adj2" fmla="val 3214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 rot="10800000">
            <a:off x="8996040" y="6561000"/>
            <a:ext cx="615960" cy="493920"/>
          </a:xfrm>
          <a:prstGeom prst="leftArrow">
            <a:avLst>
              <a:gd name="adj1" fmla="val 50000"/>
              <a:gd name="adj2" fmla="val 311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8272440" y="6508800"/>
            <a:ext cx="530280" cy="5824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16200" y="4603680"/>
            <a:ext cx="2485800" cy="17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78 L -0.125 0.2878 L 0 0 Z"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y Friend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my community there are 10 boys my ag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e have been together since kindergar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eve and Ray are probably my favorites but I play with everyon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7373880" y="6580080"/>
            <a:ext cx="635040" cy="493920"/>
          </a:xfrm>
          <a:prstGeom prst="leftArrow">
            <a:avLst>
              <a:gd name="adj1" fmla="val 50000"/>
              <a:gd name="adj2" fmla="val 3214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 rot="10800000">
            <a:off x="8996040" y="6561000"/>
            <a:ext cx="615960" cy="493920"/>
          </a:xfrm>
          <a:prstGeom prst="leftArrow">
            <a:avLst>
              <a:gd name="adj1" fmla="val 50000"/>
              <a:gd name="adj2" fmla="val 311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8272440" y="6508800"/>
            <a:ext cx="530280" cy="5824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y Roo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room is in the back part of the hou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t was a building at the Topaz Camp until my parents added it on to the hou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t gets really cold in the winter ti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have my own desk and book case so I can study and do home wor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t is a fairly big room and I share it with my broth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373880" y="6580080"/>
            <a:ext cx="635040" cy="493920"/>
          </a:xfrm>
          <a:prstGeom prst="leftArrow">
            <a:avLst>
              <a:gd name="adj1" fmla="val 50000"/>
              <a:gd name="adj2" fmla="val 3214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 rot="10800000">
            <a:off x="8996040" y="6561000"/>
            <a:ext cx="615960" cy="493920"/>
          </a:xfrm>
          <a:prstGeom prst="leftArrow">
            <a:avLst>
              <a:gd name="adj1" fmla="val 50000"/>
              <a:gd name="adj2" fmla="val 311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8272440" y="6508800"/>
            <a:ext cx="530280" cy="5824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y Favorite Music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like to listen to the radio at nigh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e listen to KOMA on  AM radi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t plays lots of oldies music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ome of the music comes from th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eatl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imon and Garfunkel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he Beach Boy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he Carpenter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James Taylo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7373880" y="6580080"/>
            <a:ext cx="635040" cy="493920"/>
          </a:xfrm>
          <a:prstGeom prst="leftArrow">
            <a:avLst>
              <a:gd name="adj1" fmla="val 50000"/>
              <a:gd name="adj2" fmla="val 3214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 rot="10800000">
            <a:off x="8996040" y="6561000"/>
            <a:ext cx="615960" cy="493920"/>
          </a:xfrm>
          <a:prstGeom prst="leftArrow">
            <a:avLst>
              <a:gd name="adj1" fmla="val 50000"/>
              <a:gd name="adj2" fmla="val 311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8272440" y="6508800"/>
            <a:ext cx="530280" cy="5824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480440" y="23302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319880" y="4003560"/>
            <a:ext cx="1922400" cy="2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ff00"/>
                </a:solidFill>
                <a:latin typeface="Arial"/>
              </a:rPr>
              <a:t>http://www.legalsound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